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C19F-634C-4CAD-BB43-413D7BD48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A1B-E6DA-49F8-8C2D-50DFEAC6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D5B-B852-4E64-84FF-D7687D5B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9BC40-8319-4BE1-8C9F-8FE80799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2A6E8-CBE9-45EC-8DAA-298A9922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DB382-94D8-401B-AAD9-DBEAA208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A7428-1301-47FA-8DAE-2412B173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2FA99-CED8-4D15-9D41-ADE3D2C6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A33E9-2829-4C83-9B9C-A3873999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456C3-8C1B-487A-91ED-2298FA83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D0C86-76D9-4D93-A5D6-B78793D6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40998-09E3-4411-A836-1B8E9EE0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D0396-088E-43C7-9D24-27E42386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057-BA50-41F4-BFEA-60BD5DE1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F650E-190F-430E-A51C-A9DAC88F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89BB1-74C2-4C7B-98BD-0AD820A9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56895-44B5-4355-BC86-A32031F4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7C5AE-677E-4BD4-A815-748626C5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16B50-8E5C-49DD-B085-A6C89C6B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B4C91-1418-4C39-AC37-885E75CB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C0A1B-80B5-4F6C-B60D-C0423FAB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D9A1A-A685-4735-84CB-26CE4ABB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3CB41-750C-45AC-B044-7924FBD0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34727-1716-4AD7-97AE-434BCE82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AD7-3BA4-41BD-80F7-8D99F9F7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18A9F-87A0-434E-9082-A2FB16E2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2D49F-1E78-4677-B5A0-78C99566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A7019-E6EF-4457-AB63-B74079D0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36AC3-AD55-4543-8BCA-52058732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B0D23-3EF7-4477-82B8-5C7190BE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96C11-0B89-46CC-BCF2-A8316D2F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32CCF-B598-4078-A888-CA942E46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0298E-7383-4881-9BD4-25AEE125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DDB81-9C29-4A57-A14D-AB1BEF8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C5020-0B12-4BC3-B94E-226BEDC7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2387-EBA3-4445-A235-B04B9558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BFA4B-0ED2-4C57-9AC6-04BB4727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531FF-EF28-401C-86ED-E7B51E27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1D840-8AE6-4D7A-89E4-9CFC08F1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587D9-0A95-47FE-A8D8-512F0203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C80DA-B8D7-4860-96EB-18F313A7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33FF2-19B2-4F2F-BDBB-E0B338AF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B2C2D-888E-4917-B991-B9344819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EDDB5-5713-4D06-8DC9-1B74B9C5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AA22B-FE66-4403-89E2-AAD6E262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CED8C-749F-43DD-98FF-0DCE7AD8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B436-A640-486C-AEC1-FA274522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C619A-6575-4227-B344-7AB8E818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2E7B2-9C0F-4E4E-A8F0-8F3BAF5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0FE0C-6B18-48DA-938D-BFFFFB0F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44279-B684-4199-BF7B-CD4147CE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055C7-F48C-47E6-B613-C2E77076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D05CD-C8A9-4B96-A228-124DAFC9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EF6C6-3F5C-489C-8D9D-BAE18E53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FE86B-1AEE-47E1-A3BD-9057E541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A273D-2C62-44F2-B149-0B3B7EED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EF2F1-6064-4204-B5AB-175C191B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D635-3D87-4060-AD66-79CF4477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69E5F-1E89-4AA9-8561-61F06FAC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0839E-62D1-4E30-91A1-BAD5A2D2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AC14C-1395-4D32-A726-A8397AA1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797DE-38CA-4524-BF35-36D29D9F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A9601-394F-48C5-883E-AB644E41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3D848-4E9D-4735-A444-030EABE6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7F674-2561-4F15-8BE9-D7C6AAA7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124D0-24BA-41B1-9EF7-35359F70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1A616-C8B8-4D75-B2AC-9E8F27E2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98430-160C-4E2A-AC4C-85CB2C25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6F05-40C2-495D-B336-7F84B3B7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72FFC-9FA9-4396-B044-FAD0AD17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FD04A-D841-4E11-B930-A584FE81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D7260-7C71-4FA2-8951-3CB8E3E6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5EC48-B768-44AE-98B1-D6B56B7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2C93F-2830-4B66-BFF3-6EE5202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364D8-6729-4F1E-B573-39F3FFC3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46139-D685-4820-A4BA-011D3EF2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0DBE3-954C-4664-B9C7-2FCFC993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4C397-5813-4B11-82BA-25BCB812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C448D-9969-4B0C-9628-B08793A6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65E1-5F51-41DE-8556-5E25160F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A8091-4E54-4945-83AA-BED4CCF5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943DC-9CFF-4C75-AF59-14D14149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388F0-E4E3-42FC-B05C-E493E9DC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AAE64E-10B9-477C-ABD0-CAA3A346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27C94-4C20-49F8-A19F-FE55326F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C1849-D770-4439-9EBC-BC4D8CC3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40144-E328-443B-89DC-9CAC17D1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BDEF9-F493-4410-BA5C-BC5C18D1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CBF20-B800-432A-8A33-B55A84FF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1AAA34-6C3B-4BD6-8406-7B3F99DB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57A2-1AE0-47C7-B2D7-0DBF42E6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58FE9-CACC-4FB2-B4EA-90820701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EC8BD-342B-4026-A7C2-0E432E5B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20E0E5-AB00-4BF8-AD7B-FE88AD7E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0D772-47EE-4F16-AFE1-9425D2D4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8DEBD-C7F5-4402-A8F7-BA21F500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0DE760-2B79-489A-9183-4BDE8D20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14E92-1530-408B-9BFF-434941A4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684A5-D9FC-4643-91B0-3795403F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5D484-D5FF-4557-A647-AD505EC1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F56AD-CAFB-41CE-B2BF-A408E3B7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A5E8-7B10-41D2-88D9-9B0FDCF2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F9F82-6234-474C-B328-0463F8FE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7DAF6A-35B6-4337-A7EB-698F100F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C3953-D0A4-404F-8788-790E05A4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9E32D-9572-43EB-8311-FC7FE4F7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01459-21F5-4C36-9418-B0558BB1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DB390A-A3E7-40D0-8F3E-B334924D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CFC9C-5FB5-4353-A84A-8C030473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DD1EB-0119-42AC-9235-91EA6CCD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DBF6E5-E5CF-4F3F-8897-5B133EF5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006EA-55B7-4863-A625-93FCFCDB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3F6-4928-46D6-9DD4-207B1B0B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77CE-331A-4C0C-867C-07B4AE5A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A48AA-C612-4F25-B795-0EC190DB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CA64F-1489-48A3-B9D1-877C5081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8F9606-4305-494E-BE88-3826669D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D7BA9-5C88-494E-B13D-C09061E1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B648A-96B1-426A-BDFF-47249B19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49A2FA-836E-413A-B1CA-B363EA4D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25027-A72E-4B32-B662-589445E3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1EDAA4-3B45-4D3D-AC9B-C2BC92C6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DDBB0-057E-4C00-B4F9-F903E240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022F0-0C02-484F-8FEB-3D52CF34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97EE-5395-4151-8E44-53FF4BB9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707D7-7417-4F26-B6F8-389F9748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4AA91-8ECC-4C3E-8F86-4ECAEA3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E9ECD-8354-443F-B977-B2EBE5B6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CC8B4-CFCD-4E1C-AF73-85E683B8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C2F69-9028-4F7C-8850-D8B45FA3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1096C-A16E-4642-9044-F5286E6F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9A96AA-DADF-4AEA-8AF0-8BBD2ECD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AB2E1-693D-4D5F-B501-8B5EE0AC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2BBA6E-AD81-47AA-94F6-B2052D5E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8C4C6D-4490-45EB-98A8-4DDCA265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31C7-CCEF-498B-9AEC-523082A6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8A051-CCD5-4F76-AF8D-DA91BBD9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E2798-E20D-49BC-ADAB-44D4D560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61A10-2568-41AC-9805-B80C5484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AE6470-E0C8-4820-8262-5CECA6C6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28FAD-34EE-4B6D-9073-16A11AA1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4EC68-6674-49FF-A8DB-402CE7B1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63532-8F1E-4024-A5B0-5D23C208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66661A-F3EE-4B09-B7BC-2193C842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A1DF9-0761-485F-B2EA-ADA30D57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1D8230-3FE9-4E4C-8A31-B0E27D70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2BED-3275-4B25-AE90-E08C3F12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F7CBA-5FDD-48AC-978A-AC783AD3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FC9E1-6C64-414B-A531-4AF36D3D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F9E7C-111D-45B9-B773-FCABA987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01C7F-9ECE-4758-AB59-771414FD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30E6B9-8F85-4730-B0E7-D18730AB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1B192-ABDA-4E59-A845-064589A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EBE75-A8AA-499A-B410-0E476717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5E499D-EDC1-41DE-A903-5C5ECB1F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5CB65-AFEB-48EF-A793-37FDB435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5233BE-95F8-413D-94F3-DBF59B07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83FA-3DBE-4D90-B814-0B1B3FDC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7EBA1-379A-4BD1-A799-CAAEF47C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5E7FC0-003C-47B8-BD72-0A706E74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6B36A4-F7A6-4D4E-AFC8-DA208407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46E21D-FDFB-4091-AA4C-4D55C624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AD2E8D-5239-460E-93BC-DFF145F3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76BBE5-D953-4EAD-B715-E2BFDE46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EDA383-3EB1-4018-A6C4-FB61E511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FAF2BE-6063-44B0-822D-30F06B84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35031D-93BF-4D49-B943-63C36B48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3C172F-89BA-4692-8F3A-6F24B2CB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C6FB-F6AA-494C-9D36-9C1E077A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49772A-728F-403A-A454-9A91B007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49F877-E29D-4F15-97F7-968B15CC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CBD128-BA93-4C3A-AFC4-6433B71E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8A74F7-4BC3-4B21-9D14-8D141761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A821B1-72D3-4B61-947C-D657320B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ECB9FE-BD3A-4A75-AB50-54CB84A0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45EC5D-C3B3-4CC7-AF20-BB16DC6D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76B0F4-D3BF-4CAA-AC21-5BF5F3F8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F09A44-C127-4E27-9A31-25DEFBED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818DCF-3EC3-45A1-9AA3-C1354EF3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AA39-440D-4AA4-AF5A-2FE6CCBB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45C134-4F52-47EA-8415-E21CA59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9AA8BC-F459-415D-804F-FC0026D8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7CD957-170D-4DC6-B16B-F660C599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1E8A96-A3AD-42BF-AEB1-E7CB8BAE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54795F-9EE8-4BC4-96B3-F73B4724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F3ABD3-12F8-40F2-8D92-99E5CC88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9FE014-FE71-4591-8570-6DD30F21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4C1350-2E2F-438D-A08A-F8E9547C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F40CCA-8FB4-49A1-B239-AAF79560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DBA5FA-6BF9-4E97-9B0D-ACEB348E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5EC3-F472-43B8-86EC-16FAEC60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52EE09-C040-428C-9C02-36CBF216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9E4863-F121-4F17-90AF-87879730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A8E4EB-656F-4952-A930-19632DDF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36EC39-987C-4CE8-ACCA-17466E0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46A266-9B90-4AB8-9920-719B74C0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545C03-DA0A-41B5-9205-177BCEAF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09A2D7-06E6-4666-9DEC-BA9B69D9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5CF015-E90A-4F23-9EC1-9E1B604F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BE02B7-F662-4C67-8D28-7ABFBFCC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2807A6-D10C-4730-8A53-D986233C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8AC49-BFBF-4191-AC77-FB898929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98BE31-1E47-420F-B637-5563A333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A8F2CC-FAED-4CEC-BAFB-C65C48CD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902A00-0BA2-4F7F-AAC6-0972DE15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771A0E-DFD6-4918-9EF7-8BB48256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0EBEAD-14FE-479D-A550-29C45F9C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84D8B5-284C-4786-A26C-512FAD0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474CB0-0F6B-4771-8F87-512FA899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589D56-0A7F-4162-A7DA-A3F4103C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E0FDCC-1484-4E21-8293-DCF40B51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AB26-CFF9-4D33-86C9-4D618355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D7C-38CD-43ED-93ED-056938D9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8546-2C24-4B89-9621-AF243B87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4849-5614-4BE9-8B03-6E639559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432A-0115-475D-B95D-794517B0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0AD31-D281-4835-BE72-85ED9059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5096-1630-4921-9319-B200E775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C5800-A143-4B34-A892-5078E467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4AC9-E0B9-46B2-9A81-1F35C1E5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8CECF-9135-4B6B-B755-DA2B9465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B745-763F-4885-83D9-6CE5E7E3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4E28-0016-457D-8F1F-9D874FB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902-F5FA-4E54-96A4-0ED279FF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19598-BDDC-461E-8D13-32F0D1E4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E5B6F-D5B2-4741-8130-3FCEF19B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15906-B51D-49F8-A6D3-DC73CDD1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5CA0-F513-49CB-8956-8031CF31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91B5-6BCA-4C1E-87C7-FC36F804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E26C-92D4-41A7-BEF4-66FF5346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C8315-C00C-418A-B646-93490D38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7752A-B5D6-43EB-BEBF-F8CB7A86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837D0-A188-426C-A268-246A38E9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DAB84-CEF1-45CE-B2B5-5C20E25E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EFC-9BEC-4C6E-9E26-66A8ADD3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66616-C56A-4337-8B60-2C6A7560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6AD77-9B43-4244-B570-4B3212A7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753D9-46FD-40A2-9FFE-3EED3254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AE555-BFB4-4E6D-9897-70C9744F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DD82A-F338-476A-A196-FD17C3B8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BF888-39A2-4692-B4BC-4A21E6E6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E1BA9-46E5-40EE-8C59-E1067DC9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58967-4B1A-4CA0-B9E4-5E7BDFB7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7AC8-CEE0-451F-BCE7-23BBB04A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C97CE-B8A7-4F90-87E8-DCF7C671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FD6-B400-4200-9B09-4373B102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E3AC7-9B82-4B09-B116-9BBC456E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9E5DD-F345-469A-8F0A-281A8DCD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9A933-DED0-4F31-97DC-E7896337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5E886-1F5F-4F8D-880A-0547B9BE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E678A-6F3D-450E-B662-BBBE592F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30361-B106-4477-865B-3F0C2A2A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268C0-2253-4AFC-9A1D-BEDC5C2A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4BAFA-647F-414C-A95B-D3F00A15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31010-7633-40F1-990A-A25ED536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B89D5-610D-4B69-A2A7-D732B855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C33-8CF8-4F5E-B73F-6A1DC8D8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DCED3-469F-492F-A5D0-C9017C03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A5D5F-095B-47E8-84CE-C27F742F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455BC-2D5D-48AE-98C2-00A4747B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9D6D4-EF7B-4B37-8845-706CE17D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91EB4-2A9A-4BFE-9DEF-EA875F36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49C6E-24A3-43DB-B02C-98685918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E2794-0D89-4F5F-9C98-384F67BA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FFABD-94E1-4E05-B65A-AAB57915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76090-D2ED-48F4-A901-C6835C25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F05F-A21A-43E5-BBE9-FFE2353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5EF-C0D7-4D0B-9261-E15678DD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F73FB-833A-4E2E-94C8-B1F65C91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B720B-76D7-43B4-9080-F93BF682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E1454-B303-427D-8EC9-581C32E5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EC1BE-6AF1-483D-B4EA-65BE9E6B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83723-C2B3-4C09-8A47-A1B80D08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61E3C-93B2-4901-83C2-E3A7CCD4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030D9-95AA-4DA0-A29B-190F716D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74878-14D9-4F8D-9793-5BCE85D1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05A9C-1A7F-478F-91EA-E3685A62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D37A9-9827-4EAD-BE28-7E1C89F6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A3C-5767-4731-AC38-A617854D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7D683-E9EC-4F92-8C2A-1C7397D3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64F36-EB3E-402F-A626-9DE7F9DE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D3C50-0CDB-4C18-AD52-00E3219F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0F8CF-02EF-4DAB-A428-B584E833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FD448-AADC-4D85-9F12-C7E8C7B9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87443-B694-4426-8DA3-1EE1231E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A7F4A-CF3D-4587-8A25-99B27DB8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07D6A-642D-4116-8C10-C2E7AA9F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4FBC5-FA4D-4FD9-B4A4-7051811B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70F1F-5C5B-46A9-B40F-951B7B84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2FE9-7C3A-4FB1-BD39-301E0773C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4F2C-6A6D-4FFD-8AEF-3E749EB44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F888-70E7-48F5-A78A-870D840BB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82844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C931-37A1-4C2D-8F69-FFF58ECFD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0B62-7F9D-4C31-ADC2-6FAE7C233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E62F-E6AD-478D-81BF-7963173EC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A8F-2D1D-409B-A91C-3FA993098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99BC-5CC1-410B-A1F2-A7DBF6E4C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0FBA-38F4-42E3-AB3B-505D407AE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FCFC-A52F-4D05-BD79-1E4DBFA33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9218-9877-4FAD-8EA9-D316DC1E5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8248-7D46-4319-A930-EC8603484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4DB9-CC35-439F-8491-47CD93921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0382-C381-4DAE-9897-B0A1EA4D0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9DB8-666C-44B8-AED8-7FC153B8A65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EF74-2807-4268-AC7F-4FFA15805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106A-D18C-49AB-8B71-E83DCA73DCA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D123-41F4-4C7B-920D-39D3D7E59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5F0F-3BA3-4232-A928-844C0553F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F245-03E1-4A9D-B2FB-E4302FF09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DF77-453A-4026-B922-53DD21444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991F-7B50-440D-826E-5A592E3CE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8A34-BC10-4B2F-9F66-DF1F980CA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F908-B936-4D98-8790-62BD3CA37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WordArt 4"/>
          <p:cNvSpPr txBox="1"/>
          <p:nvPr/>
        </p:nvSpPr>
        <p:spPr>
          <a:xfrm>
            <a:off x="2286000" y="76212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dventures in Biolog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914400" y="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different forms of Reproduc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costs/benefits of each for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This week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we’ll discuss 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sexu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differentiation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- how sexually reproducing organisms develo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nto separate sexes.  Specifically, as it applies to us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4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XX genotype"/>
          <p:cNvPicPr/>
          <p:nvPr/>
        </p:nvPicPr>
        <p:blipFill>
          <a:blip r:embed="rId1"/>
          <a:stretch/>
        </p:blipFill>
        <p:spPr>
          <a:xfrm>
            <a:off x="990720" y="0"/>
            <a:ext cx="1430280" cy="2590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Female Reproductive System 3"/>
          <p:cNvPicPr/>
          <p:nvPr/>
        </p:nvPicPr>
        <p:blipFill>
          <a:blip r:embed="rId2"/>
          <a:stretch/>
        </p:blipFill>
        <p:spPr>
          <a:xfrm>
            <a:off x="4191120" y="457200"/>
            <a:ext cx="2971800" cy="1806480"/>
          </a:xfrm>
          <a:prstGeom prst="rect">
            <a:avLst/>
          </a:prstGeom>
          <a:ln w="0">
            <a:noFill/>
          </a:ln>
        </p:spPr>
      </p:pic>
      <p:sp>
        <p:nvSpPr>
          <p:cNvPr id="1050" name="Line 4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2670120" y="60948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4271400" y="2286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7"/>
          <p:cNvSpPr/>
          <p:nvPr/>
        </p:nvSpPr>
        <p:spPr>
          <a:xfrm>
            <a:off x="73152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716580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9" descr="Estradiol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207504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10"/>
          <p:cNvSpPr/>
          <p:nvPr/>
        </p:nvSpPr>
        <p:spPr>
          <a:xfrm>
            <a:off x="1663560" y="53704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4041720" y="4038480"/>
            <a:ext cx="148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13" descr="Female body"/>
          <p:cNvPicPr/>
          <p:nvPr/>
        </p:nvPicPr>
        <p:blipFill>
          <a:blip r:embed="rId4"/>
          <a:stretch/>
        </p:blipFill>
        <p:spPr>
          <a:xfrm>
            <a:off x="6095880" y="2971800"/>
            <a:ext cx="1300320" cy="3638520"/>
          </a:xfrm>
          <a:prstGeom prst="rect">
            <a:avLst/>
          </a:prstGeom>
          <a:ln w="0">
            <a:noFill/>
          </a:ln>
        </p:spPr>
      </p:pic>
      <p:sp>
        <p:nvSpPr>
          <p:cNvPr id="10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…How Do We Get From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96" name="Picture 4" descr="blastuala"/>
          <p:cNvPicPr/>
          <p:nvPr/>
        </p:nvPicPr>
        <p:blipFill>
          <a:blip r:embed="rId1"/>
          <a:stretch/>
        </p:blipFill>
        <p:spPr>
          <a:xfrm>
            <a:off x="914400" y="31240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997" name="Line 5"/>
          <p:cNvSpPr/>
          <p:nvPr/>
        </p:nvSpPr>
        <p:spPr>
          <a:xfrm flipV="1">
            <a:off x="2819520" y="243828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7"/>
          <p:cNvSpPr/>
          <p:nvPr/>
        </p:nvSpPr>
        <p:spPr>
          <a:xfrm>
            <a:off x="2819520" y="380988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8" descr="Female Reproductive System 2"/>
          <p:cNvPicPr/>
          <p:nvPr/>
        </p:nvPicPr>
        <p:blipFill>
          <a:blip r:embed="rId2"/>
          <a:stretch/>
        </p:blipFill>
        <p:spPr>
          <a:xfrm>
            <a:off x="4419720" y="838080"/>
            <a:ext cx="1166760" cy="2819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Male Reproductive System"/>
          <p:cNvPicPr/>
          <p:nvPr/>
        </p:nvPicPr>
        <p:blipFill>
          <a:blip r:embed="rId3"/>
          <a:stretch/>
        </p:blipFill>
        <p:spPr>
          <a:xfrm>
            <a:off x="4419720" y="3429000"/>
            <a:ext cx="1225440" cy="30481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10"/>
          <p:cNvSpPr/>
          <p:nvPr/>
        </p:nvSpPr>
        <p:spPr>
          <a:xfrm>
            <a:off x="901440" y="250344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 rot="19003200">
            <a:off x="2974320" y="2742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 rot="1708200">
            <a:off x="2896920" y="4266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262320" y="3618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5563800" y="3083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8480" y="460836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338800" y="26668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7"/>
          <p:cNvSpPr/>
          <p:nvPr/>
        </p:nvSpPr>
        <p:spPr>
          <a:xfrm>
            <a:off x="5415120" y="52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5" descr="Y chromosome"/>
          <p:cNvPicPr/>
          <p:nvPr/>
        </p:nvPicPr>
        <p:blipFill>
          <a:blip r:embed="rId1"/>
          <a:stretch/>
        </p:blipFill>
        <p:spPr>
          <a:xfrm>
            <a:off x="2971800" y="4191120"/>
            <a:ext cx="1593720" cy="22096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" descr="Bathrooms"/>
          <p:cNvPicPr/>
          <p:nvPr/>
        </p:nvPicPr>
        <p:blipFill>
          <a:blip r:embed="rId2"/>
          <a:stretch/>
        </p:blipFill>
        <p:spPr>
          <a:xfrm>
            <a:off x="4876920" y="1752480"/>
            <a:ext cx="3047760" cy="1898640"/>
          </a:xfrm>
          <a:prstGeom prst="rect">
            <a:avLst/>
          </a:prstGeom>
          <a:ln w="0">
            <a:noFill/>
          </a:ln>
        </p:spPr>
      </p:pic>
      <p:sp>
        <p:nvSpPr>
          <p:cNvPr id="10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 chromosome contains a gene known a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on on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)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066680" y="571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ut what about the        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11" descr="chromosome"/>
          <p:cNvPicPr/>
          <p:nvPr/>
        </p:nvPicPr>
        <p:blipFill>
          <a:blip r:embed="rId1"/>
          <a:stretch/>
        </p:blipFill>
        <p:spPr>
          <a:xfrm>
            <a:off x="4267080" y="5105520"/>
            <a:ext cx="974880" cy="1752480"/>
          </a:xfrm>
          <a:prstGeom prst="rect">
            <a:avLst/>
          </a:prstGeom>
          <a:ln w="0">
            <a:noFill/>
          </a:ln>
        </p:spPr>
      </p:pic>
      <p:sp>
        <p:nvSpPr>
          <p:cNvPr id="10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6340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fetal sex organ development 2"/>
          <p:cNvPicPr/>
          <p:nvPr/>
        </p:nvPicPr>
        <p:blipFill>
          <a:blip r:embed="rId1"/>
          <a:stretch/>
        </p:blipFill>
        <p:spPr>
          <a:xfrm>
            <a:off x="1219320" y="0"/>
            <a:ext cx="65466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24" name="Picture 4" descr="fetal sex organ development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10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BUT…how does this happen??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0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stes form they rele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stosterone &amp; MI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leri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ibi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male reproductive system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ducts of the female system to de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Male Body"/>
          <p:cNvPicPr/>
          <p:nvPr/>
        </p:nvPicPr>
        <p:blipFill>
          <a:blip r:embed="rId1"/>
          <a:stretch/>
        </p:blipFill>
        <p:spPr>
          <a:xfrm>
            <a:off x="6095880" y="3505320"/>
            <a:ext cx="1347840" cy="2971800"/>
          </a:xfrm>
          <a:prstGeom prst="rect">
            <a:avLst/>
          </a:prstGeom>
          <a:ln w="0">
            <a:noFill/>
          </a:ln>
        </p:spPr>
      </p:pic>
      <p:sp>
        <p:nvSpPr>
          <p:cNvPr id="1030" name="Line 3"/>
          <p:cNvSpPr/>
          <p:nvPr/>
        </p:nvSpPr>
        <p:spPr>
          <a:xfrm>
            <a:off x="43434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4"/>
          <p:cNvGrpSpPr/>
          <p:nvPr/>
        </p:nvGrpSpPr>
        <p:grpSpPr>
          <a:xfrm>
            <a:off x="990720" y="3657600"/>
            <a:ext cx="2743200" cy="2471400"/>
            <a:chOff x="990720" y="3657600"/>
            <a:chExt cx="2743200" cy="2471400"/>
          </a:xfrm>
        </p:grpSpPr>
        <p:pic>
          <p:nvPicPr>
            <p:cNvPr id="1032" name="Picture 5" descr="testosterone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27432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 Box 6"/>
            <p:cNvSpPr/>
            <p:nvPr/>
          </p:nvSpPr>
          <p:spPr>
            <a:xfrm>
              <a:off x="1831320" y="54864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oster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 M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7"/>
          <p:cNvGrpSpPr/>
          <p:nvPr/>
        </p:nvGrpSpPr>
        <p:grpSpPr>
          <a:xfrm>
            <a:off x="3278880" y="1523880"/>
            <a:ext cx="1386360" cy="642600"/>
            <a:chOff x="3278880" y="1523880"/>
            <a:chExt cx="1386360" cy="642600"/>
          </a:xfrm>
        </p:grpSpPr>
        <p:sp>
          <p:nvSpPr>
            <p:cNvPr id="1035" name="Line 8"/>
            <p:cNvSpPr/>
            <p:nvPr/>
          </p:nvSpPr>
          <p:spPr>
            <a:xfrm>
              <a:off x="335304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9"/>
            <p:cNvSpPr/>
            <p:nvPr/>
          </p:nvSpPr>
          <p:spPr>
            <a:xfrm>
              <a:off x="3278880" y="152388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s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ma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0"/>
          <p:cNvGrpSpPr/>
          <p:nvPr/>
        </p:nvGrpSpPr>
        <p:grpSpPr>
          <a:xfrm>
            <a:off x="6477120" y="1523880"/>
            <a:ext cx="1295280" cy="368280"/>
            <a:chOff x="6477120" y="1523880"/>
            <a:chExt cx="1295280" cy="368280"/>
          </a:xfrm>
        </p:grpSpPr>
        <p:sp>
          <p:nvSpPr>
            <p:cNvPr id="1038" name="Line 11"/>
            <p:cNvSpPr/>
            <p:nvPr/>
          </p:nvSpPr>
          <p:spPr>
            <a:xfrm>
              <a:off x="647712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2"/>
            <p:cNvSpPr/>
            <p:nvPr/>
          </p:nvSpPr>
          <p:spPr>
            <a:xfrm>
              <a:off x="6480000" y="15238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13"/>
          <p:cNvSpPr/>
          <p:nvPr/>
        </p:nvSpPr>
        <p:spPr>
          <a:xfrm>
            <a:off x="4136040" y="4572000"/>
            <a:ext cx="17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4"/>
          <p:cNvGrpSpPr/>
          <p:nvPr/>
        </p:nvGrpSpPr>
        <p:grpSpPr>
          <a:xfrm>
            <a:off x="4800600" y="533520"/>
            <a:ext cx="1639800" cy="2501640"/>
            <a:chOff x="4800600" y="533520"/>
            <a:chExt cx="1639800" cy="2501640"/>
          </a:xfrm>
        </p:grpSpPr>
        <p:pic>
          <p:nvPicPr>
            <p:cNvPr id="1042" name="Picture 15" descr="testes"/>
            <p:cNvPicPr/>
            <p:nvPr/>
          </p:nvPicPr>
          <p:blipFill>
            <a:blip r:embed="rId3"/>
            <a:stretch/>
          </p:blipFill>
          <p:spPr>
            <a:xfrm>
              <a:off x="4800600" y="533520"/>
              <a:ext cx="1639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6"/>
            <p:cNvSpPr/>
            <p:nvPr/>
          </p:nvSpPr>
          <p:spPr>
            <a:xfrm>
              <a:off x="5183280" y="26668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7"/>
          <p:cNvGrpSpPr/>
          <p:nvPr/>
        </p:nvGrpSpPr>
        <p:grpSpPr>
          <a:xfrm>
            <a:off x="914400" y="609480"/>
            <a:ext cx="2438280" cy="3019320"/>
            <a:chOff x="914400" y="609480"/>
            <a:chExt cx="2438280" cy="3019320"/>
          </a:xfrm>
        </p:grpSpPr>
        <p:pic>
          <p:nvPicPr>
            <p:cNvPr id="1045" name="Picture 18" descr="SRY gene 2"/>
            <p:cNvPicPr/>
            <p:nvPr/>
          </p:nvPicPr>
          <p:blipFill>
            <a:blip r:embed="rId4"/>
            <a:stretch/>
          </p:blipFill>
          <p:spPr>
            <a:xfrm>
              <a:off x="914400" y="609480"/>
              <a:ext cx="243828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9"/>
            <p:cNvSpPr/>
            <p:nvPr/>
          </p:nvSpPr>
          <p:spPr>
            <a:xfrm>
              <a:off x="1145520" y="3048120"/>
              <a:ext cx="178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Y gene on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Chromos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32:50Z</dcterms:created>
  <dc:creator>John Bojnowski</dc:creator>
  <dc:description/>
  <dc:language>en-US</dc:language>
  <cp:lastModifiedBy>LEGION2</cp:lastModifiedBy>
  <dcterms:modified xsi:type="dcterms:W3CDTF">2016-01-12T12:30:56Z</dcterms:modified>
  <cp:revision>8</cp:revision>
  <dc:subject/>
  <dc:title>Slide 1</dc:title>
</cp:coreProperties>
</file>